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192-7773-40F6-A40C-3D694C64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3EB-BD5A-4E60-ADAC-BD0526D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4C0-1731-415D-ABCD-635C091C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C39-57FE-454E-BB6F-CEDAD742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C96-1F87-40DF-AF9F-4A5AAAC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D54D-8093-405C-A212-015343D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AC65-6145-4F22-A92F-1356EB2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05A2-1F96-465F-B41B-1263C26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BE39-FAD5-4727-9908-3104AE2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68A-1C34-4221-8586-E46F69D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E5E-766A-4A2C-BCCC-538EE9C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CAC-2006-47BF-A14B-DE8F797F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C3FC-A867-4030-8E80-2F4BF72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579A-D77D-436E-AC44-86803FA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682-25A0-4FCC-ACAF-E3845FB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0B29-E0A2-42AB-92F4-7E320F06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1604-2EF7-45CB-A733-633572C6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485-457A-4B18-A056-596CA45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4F0-8A7C-4AC5-84E8-991DDD81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E43-14DB-4EE1-9755-29FBDF90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E25-CF9E-46F1-8749-CEF8A8A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C23-76A3-432C-9FB7-CFADEAB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6AC-8A45-4637-BA63-F808644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402-BB69-4500-ABC7-D158CDD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688-1208-459C-A810-C389DB560E1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E62A-E13A-4B49-8A31-989679B4B84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paradigm for teaching in the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1682640"/>
            <a:ext cx="6324480" cy="51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alibri"/>
              </a:rPr>
              <a:t>What we teach are inquiry processe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alibri"/>
              </a:rPr>
              <a:t>How we teach it is in collaboration with content-area teacher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u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Collaborate by designing lessons together using inquiry processes &amp; information technolog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Engage students in storytel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Use the library for producing and presen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Set up pathfinders for your units of stud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Encourage reading through book talks/pa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Learn how to use search tools and databa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2:36:39Z</dcterms:created>
  <dc:creator>cryman</dc:creator>
  <dc:description/>
  <dc:language>en-US</dc:language>
  <cp:lastModifiedBy>cryman</cp:lastModifiedBy>
  <dcterms:modified xsi:type="dcterms:W3CDTF">2009-08-06T21:01:05Z</dcterms:modified>
  <cp:revision>5</cp:revision>
  <dc:subject/>
  <dc:title>A new paradigm for teaching in the 21st Century</dc:title>
</cp:coreProperties>
</file>